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4FA-0B29-4FBB-BF2A-32DD0FD8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8146-821F-44D3-AF2B-9608E165A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D40B-E2FE-4BFC-BC5B-EE3010681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5ED7-34EE-4D59-8050-191326B2F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E6FD-BB80-42FA-A348-9A9E5C947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 Literacy critical think, creativity nd innovation,comm.and info.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Ski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,ethics, accountability, adaptability, sel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9A1-39D5-496F-AE35-D1D990C70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66AE-CC85-407F-AC60-804C175AB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8A2-E055-4FC7-95CC-C9DB7AEBB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2FD9-6B51-4BB7-AB24-9AAD55CF92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D25-C2FD-4C97-8763-F960AAF82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0EA-E391-436A-8C39-5C886DA80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AE0-61D4-4C08-808D-D49BE8F11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4D2-01BB-4992-BAD7-CC9F2597F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541-4D82-4813-A366-D066D00B3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810-ED83-472B-9E24-87EC925C4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259-BC79-4C24-89F1-4F7E734C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B36-C207-4428-B93E-C1C897C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A13-26BA-44D6-BF88-CDF426A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A17-AA87-41BB-A1DD-34D31EE1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5EE-D5ED-448D-818B-AA6D0278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CF0-E82D-4540-96EA-B24C3F20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B0C-9233-4CD6-B11B-3BAF9A4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81B-DA9F-4750-BDE2-726178E0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D34-DB15-40B6-A314-5E88545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8638-AB57-4104-98AD-B39C66B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EFF-DDC4-46EB-AB4E-1DDDEA1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38-2713-4AE3-95A4-9B808F72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564-4398-42A8-BAF4-306B062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592-B2A7-45B0-8E21-A6EFED2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97A-2523-4B24-9BB1-D7669C3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1B6-03BA-4A85-87DD-7B6179C4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7306-7784-4D17-B60F-3FA6CCF9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CD5-E1E1-46BF-AF50-08D742F5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ED0-BACE-4FB3-8A46-75F8169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FAA-98D0-446F-942C-33AF745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8FB-F2D7-4193-A763-8D0D2475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1FD-7EAF-4E21-899F-1105FB9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8A9-3A1D-4680-BA03-E23E3DA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569-F770-45D9-9477-9567EEE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9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28C-D1FE-4823-B0AD-760EAEC4BB1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103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292-C4AC-4E07-90C1-5F053257767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mrlindsay.pbwiki.com/" TargetMode="External"/><Relationship Id="rId3" Type="http://schemas.openxmlformats.org/officeDocument/2006/relationships/hyperlink" Target="http://www.budtheteacher.com/wiki/index.php?title=Main_Pag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4lsummer.wikispaces.com/" TargetMode="External"/><Relationship Id="rId2" Type="http://schemas.openxmlformats.org/officeDocument/2006/relationships/hyperlink" Target="http://pbwiki.com/education.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entury Skills and Technology Integreatr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acher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2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ng rather than consu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ot pass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kis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Classroom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3"/>
              </a:rPr>
              <a:t>Bud the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nd Learn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T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New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WB 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E Teacher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Directions Wiki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21stcenturybp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Consi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sidine@boston.k12.m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1st Century Pro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s are tal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21stCent_Bridge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ikis be used in the class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F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81800" y="13716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Based Learning (PB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ment: collaboratively build and edit project information in a centralized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: Collect all assignment details in one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: Plan out and manage a shared project calend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: Create a forum where team members can share and comment on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: Create and edit an outline and rough draft right in the wiki — document versioning is built right 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ing: Compile research material and capture bibliography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ng: Share team contact information, post responsibilities, and send team updates through the onsite messaging fe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Sharing: Post and comment on lesson plans and syllab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Resource Collection: Share your favorite online learning tools, blogs, web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 Sharing: Post successful homework assignments, course materials, study guides,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FAQ: Post and respond to questions on a given top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0:38:45Z</dcterms:created>
  <dc:creator>BPS OIIT</dc:creator>
  <dc:description/>
  <cp:keywords/>
  <dc:language>en-US</dc:language>
  <cp:lastModifiedBy>Ed  Considine</cp:lastModifiedBy>
  <dcterms:modified xsi:type="dcterms:W3CDTF">2008-09-17T14:28:38Z</dcterms:modified>
  <cp:revision>16</cp:revision>
  <dc:subject/>
  <dc:title>PowerPoint Presentation  -  Wild World of Wikis</dc:title>
</cp:coreProperties>
</file>