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43A1-EA22-4C02-8E07-6012DEF92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5DF8-9775-4764-9C88-2CB1033544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1AFD-5BE2-4360-997A-F4745D864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32FF-74E3-496C-9DD8-94A5C37E7C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4B25-FAB4-4D15-AA4D-3A431B96FC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 Literacy critical think, creativity nd innovation,comm.and info.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Ski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hip,ethics, accountability, adaptability, sel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FE64-6711-4CA9-BB8F-AE3DDD13C8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8BDF-5619-49E4-A63E-29A40AAA3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8B8F-8D85-40C1-B537-F2A53A77CB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E97B-8119-4CA0-8F23-519F6A2FC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F1DA-62D4-43BA-814F-A2E4BCAABA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7BB3-8CEB-4A76-90C7-1957FBAD5E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229C-6ED6-4989-BA41-7D55921CB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7D5E-5AC3-44D2-B59E-879F4B6D80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06FC-6311-46DA-A8A7-DF1DB7D62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1097-7BA4-4835-93DB-17CAB71446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131-5256-4C0F-8D60-B080977B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AE3-3BC3-4573-8794-325FF9A6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B16-6FA9-4303-AB2E-32C153F0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9E8-07B4-479F-A663-1CE8C3E7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0C6C-6F45-4BFE-BC81-E22FD7D0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3777-D457-4EE7-89F7-9C661B9B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AE30-2455-43E9-A3CE-E8724A18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A0DF-F54C-48B0-93B6-F72F6A93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55F1-BBC9-429A-A92E-E51EBDF1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A974-9346-432A-AEB0-219307C8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FD3C-EBD9-49AD-AFDE-15DB8220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085-995A-4813-BB70-4E1FF0BD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629C-56A5-436E-AEBB-71CED757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FB8-0B78-4786-AC51-2BCFE08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0C9C-5962-40A8-80AF-8E79E2A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E4E4-D76D-40D6-9002-2EC544BE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D04-4BDC-4E12-91F9-28AB71BB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8A3-B451-48CD-9D03-218C8361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A26-7CD3-4AC7-8D41-961F0EF6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289-41DE-4271-AF4C-6C79F570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E8B-FBAC-47B3-BA45-60EE9BC2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1DD-63E3-4AED-BC6B-6A95E8F8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8D1-9D16-43D4-AD47-95C559BC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B4C-36D4-49A4-A5A0-AF3560D1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9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B2F6-6C54-4A47-9310-FFFB3AEB75B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103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9A71-8DF1-470F-A39F-148F6E8E773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mrlindsay.pbwiki.com/" TargetMode="External"/><Relationship Id="rId3" Type="http://schemas.openxmlformats.org/officeDocument/2006/relationships/hyperlink" Target="http://www.budtheteacher.com/wiki/index.php?title=Main_Pag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4lsummer.wikispaces.com/" TargetMode="External"/><Relationship Id="rId2" Type="http://schemas.openxmlformats.org/officeDocument/2006/relationships/hyperlink" Target="http://pbwiki.com/education.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1st Century Skills and Technology Integreatr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acher In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 20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ing rather than consu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not passiv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kis in Ac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Classroom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3"/>
              </a:rPr>
              <a:t>Bud the Te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1st Century Ski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nd Learning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T 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New Teac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WB Wik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E Teacher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Directions Wiki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21stcenturybps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Consi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sidine@boston.k12.ma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21st Century Progra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room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s are tal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029" descr="21stCent_Bridge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wikis be used in the classro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Col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F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1752480" y="19810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981800" y="137160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Based Learning (PB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Pro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gnment: collaboratively build and edit project information in a centralized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: Collect all assignment details in one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: Plan out and manage a shared project calend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: Create a forum where team members can share and comment on id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ing: Create and edit an outline and rough draft right in the wiki — document versioning is built right 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ing: Compile research material and capture bibliography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ng: Share team contact information, post responsibilities, and send team updates through the onsite messaging fe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 Collab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iculum Sharing: Post and comment on lesson plans and syllab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Resource Collection: Share your favorite online learning tools, blogs, websit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ment Sharing: Post successful homework assignments, course materials, study guides, and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FAQ: Post and respond to questions on a given top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0:38:45Z</dcterms:created>
  <dc:creator>BPS OIIT</dc:creator>
  <dc:description/>
  <cp:keywords/>
  <dc:language>en-US</dc:language>
  <cp:lastModifiedBy>Ed  Considine</cp:lastModifiedBy>
  <dcterms:modified xsi:type="dcterms:W3CDTF">2008-09-17T14:28:38Z</dcterms:modified>
  <cp:revision>16</cp:revision>
  <dc:subject/>
  <dc:title>PowerPoint Presentation  -  Wild World of Wikis</dc:title>
</cp:coreProperties>
</file>