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ct" ContentType="image/x-pict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7F48-07D8-4193-980E-59120692B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B45D-3F01-464B-88F5-76419AF2A8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AEDA-AA8F-4883-B5D2-1A967CC070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2E0B-418E-44EA-B8F2-53D811A05D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751D-20A1-4FD9-9626-F47D065D98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T Literacy critical think, creativity nd innovation,comm.and info. collab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Ski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ership,ethics, accountability, adaptability, self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F5EF-4CB7-41A8-8C34-6EB9DE2C5B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AAB5-7F25-4AC9-8167-664DDB3B1B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8E9E-489A-46F9-947E-53CC8BEE3D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D7FE-D52D-4591-8628-C08D51A0EE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F5725-1E1D-4741-9797-C2CF3A5F13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D74E-2687-48EA-9F7F-DAF7DFF06E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CF4E-EFBE-4763-B54D-C22706ABB3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E5F5-DD7B-4C68-BF5F-C578DD7335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1388-FFB2-4EF7-8BCF-DFBCBE3F29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739A-9B6B-42E5-8A9E-5617ABFBF0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6178-E913-4C8E-83CC-E901AF551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0E8A-B875-4077-AF5C-1B3E9755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BD05-ACF0-414C-92BC-4CC220F3F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5361-63A3-4426-9469-204FBB56C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C824-6AB9-49A0-9729-FAF19AB22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6656-0E00-4C23-A3E2-25CCFF69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786B-F717-4584-8990-C9801DB9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5837-3306-4A21-8190-0236DCBB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04484-481D-4FF7-96BD-B2CD4A9F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ED0A-6FD8-4915-875C-7CBBD8F4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77AC3-B47E-42FA-AB2E-A4789D4B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2940-F70C-46BF-9C01-D1B83041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AE34-08F5-4EAF-BE8E-5DE90CDE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E1004-995C-4E58-97D7-16196D00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3E953-6C30-4E9E-BAA5-4B4B5EB7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1DD9-E165-4826-B120-08CE24D3B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060C-81A7-4CED-A1A0-B00E37BFA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FFE3-0923-486C-A21A-2A4D65A2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81CF-2AD1-4C0B-85D7-E56B1FA9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DEA5-BA2C-4ED2-B702-EE97B5B6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1403-8744-49A0-967C-CEC8909F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9AE3-D73F-47E6-B507-7A90F3B7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EA10-0623-4276-830F-134DBC92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CEB9-0CD6-40FD-86EB-C9A3C95F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Rectangle 9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65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7567-4804-47C3-BF57-0CA860E71B67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Picture 71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Rectangle 1033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4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5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6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7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8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9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10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11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12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3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4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15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6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7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18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19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20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21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22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23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24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25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26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27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29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30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Rectangle 32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33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34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35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Rectangle 36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37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Rectangle 38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39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40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Rectangle 41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Rectangle 42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43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44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45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46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47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48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49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50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Rectangle 51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Rectangle 52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Rectangle 53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54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Rectangle 55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Rectangle 56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57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58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59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Rectangle 60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61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62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63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64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65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Freeform 70"/>
          <p:cNvSpPr/>
          <p:nvPr/>
        </p:nvSpPr>
        <p:spPr>
          <a:xfrm rot="16200000">
            <a:off x="3871080" y="1005120"/>
            <a:ext cx="150840" cy="48452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577D-71BE-442D-8F13-B56AAD9BC175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wikipedia.org/" TargetMode="External"/><Relationship Id="rId2" Type="http://schemas.openxmlformats.org/officeDocument/2006/relationships/hyperlink" Target="http://mrlindsay.pbwiki.com/" TargetMode="External"/><Relationship Id="rId3" Type="http://schemas.openxmlformats.org/officeDocument/2006/relationships/hyperlink" Target="http://www.budtheteacher.com/wiki/index.php?title=Main_Page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l4lsummer.wikispaces.com/" TargetMode="External"/><Relationship Id="rId2" Type="http://schemas.openxmlformats.org/officeDocument/2006/relationships/hyperlink" Target="http://pbwiki.com/education.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1st Century Skills and Technology Integreatr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Teacher Institu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ust 20,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tive Lear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ing rather than consu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 not passive le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kis in Actio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60000"/>
                </a:solidFill>
                <a:uFillTx/>
                <a:latin typeface="Arial"/>
                <a:hlinkClick r:id="rId1"/>
              </a:rPr>
              <a:t>Wikip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60000"/>
                </a:solidFill>
                <a:uFillTx/>
                <a:latin typeface="Arial"/>
                <a:hlinkClick r:id="rId2"/>
              </a:rPr>
              <a:t>Classroom Wi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60000"/>
                </a:solidFill>
                <a:uFillTx/>
                <a:latin typeface="Arial"/>
                <a:hlinkClick r:id="rId3"/>
              </a:rPr>
              <a:t>Bud the Teac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1st Century Ski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king and Learning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CT Liter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e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60000"/>
                </a:solidFill>
                <a:uFillTx/>
                <a:latin typeface="Arial"/>
                <a:hlinkClick r:id="rId1"/>
              </a:rPr>
              <a:t>New Teacher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60000"/>
                </a:solidFill>
                <a:uFillTx/>
                <a:latin typeface="Arial"/>
                <a:hlinkClick r:id="rId2"/>
              </a:rPr>
              <a:t>WB Wik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TE Teacher 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ital Directions Wiki Wis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Quizz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ertu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ooltu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ct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21stcenturybps.wikispace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 Consid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nsidine@boston.k12.ma.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worksh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21st Century Progra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room Mod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achers are tal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1029" descr="21stCent_Bridge"/>
          <p:cNvPicPr/>
          <p:nvPr/>
        </p:nvPicPr>
        <p:blipFill>
          <a:blip r:embed="rId1"/>
          <a:stretch/>
        </p:blipFill>
        <p:spPr>
          <a:xfrm>
            <a:off x="1600200" y="1828800"/>
            <a:ext cx="617220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can wikis be used in the classro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 Pro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ig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urce Coll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er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 FA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ent invol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ine Newspa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3"/>
          <p:cNvSpPr/>
          <p:nvPr/>
        </p:nvSpPr>
        <p:spPr>
          <a:xfrm>
            <a:off x="1752480" y="1981080"/>
            <a:ext cx="6248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stig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abo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l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onst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1981800" y="1371600"/>
            <a:ext cx="623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ject Based Learning (PBL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roup Projec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ignment: collaboratively build and edit project information in a centralized lo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king: Collect all assignment details in one pla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eduling: Plan out and manage a shared project calend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09120" y="30456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ainstorming: Create a forum where team members can share and comment on ide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fting: Create and edit an outline and rough draft right in the wiki — document versioning is built right i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ing: Compile research material and capture bibliography inform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necting: Share team contact information, post responsibilities, and send team updates through the onsite messaging fea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acher Collabor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iculum Sharing: Post and comment on lesson plans and syllab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ine Resource Collection: Share your favorite online learning tools, blogs, website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609120" y="20570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ignment Sharing: Post successful homework assignments, course materials, study guides, and mo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 FAQ: Post and respond to questions on a given topi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00:38:45Z</dcterms:created>
  <dc:creator>BPS OIIT</dc:creator>
  <dc:description/>
  <cp:keywords/>
  <dc:language>en-US</dc:language>
  <cp:lastModifiedBy>Ed  Considine</cp:lastModifiedBy>
  <dcterms:modified xsi:type="dcterms:W3CDTF">2008-09-17T14:28:38Z</dcterms:modified>
  <cp:revision>16</cp:revision>
  <dc:subject/>
  <dc:title>PowerPoint Presentation  -  Wild World of Wikis</dc:title>
</cp:coreProperties>
</file>