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4E80-C2D7-4849-B4F3-99AC01E84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DE6F-7A7B-4421-9ED5-294A1F011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349-D527-46D1-8932-33547D861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3783-5C62-46E6-BEAB-342122EA00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01DD-5523-46EB-A87E-3F8324921F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 Literacy critical think, creativity nd innovation,comm.and info.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Ski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,ethics, accountability, adaptability, sel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6B16-0440-4D0B-92EA-7BA243C1D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6CA1-11EE-4BB1-BBFE-2DFCCC0A87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06A-7CD1-4AFE-B676-15E94776D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5465-7CBD-4CEE-8E32-9E808E301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F018-C4AE-4DB2-9DB0-649C5D0D3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9AB-CBA0-4E5F-BE2A-EBE0C7E0E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CEB2-9BBD-48F0-AE7F-91E112FD53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73B-690C-4F1B-BF2F-9F877A1D15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009-CBB1-4479-ADA0-9CA024E58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1D9F-C6CD-4977-BEB7-3984E757F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88E-84E4-4268-A8B7-65DE383C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550-7633-4340-B2F0-B7E5B96F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D48-A076-4DCC-8296-95B664A0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F73-3983-4AC8-83ED-E5B7452B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62DF-86C3-435F-BCFC-AF153619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2C20-CEDA-4387-AA72-D60C6DD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EBD-0437-4AEF-9214-C808361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2381-66CE-4C02-A45A-BAAB04D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78A1-7B75-49B1-952B-2EE4244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B49A-BDD7-40AB-A377-C37C2AF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CADF-4BD7-4308-8F67-458BC3BB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DD8-976B-4D50-85A2-7B891C4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DBCB-227A-4316-823C-4AB4780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8D5C-8F36-4D51-90DD-B4A9B24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0E36-1CAB-4AD2-991A-F0E6F094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E759-0CEF-487C-A4B2-09D18AE7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BCD0-70E9-4075-B0ED-DCD9E9F7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30C-22DA-44C3-BBC9-7462590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E88-1491-450E-8797-393CEF57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61F-3C19-411E-B952-6A8FBD94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CAB-42C7-417E-B554-F88AA48F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017-B0CA-400E-9A7D-D4A6926E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88A-3B68-40A1-8C1E-1C3EE2D0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1C3-130B-4697-950D-E4865C2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9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A40-A648-4D3E-818F-98CB85C9135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103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8E95-D6CA-4E51-A260-7FDA06ACBB1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mrlindsay.pbwiki.com/" TargetMode="External"/><Relationship Id="rId3" Type="http://schemas.openxmlformats.org/officeDocument/2006/relationships/hyperlink" Target="http://www.budtheteacher.com/wiki/index.php?title=Main_Pag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4lsummer.wikispaces.com/" TargetMode="External"/><Relationship Id="rId2" Type="http://schemas.openxmlformats.org/officeDocument/2006/relationships/hyperlink" Target="http://pbwiki.com/education.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entury Skills and Technology Integreatr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acher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20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ng rather than consu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not pass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kis in Ac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Classroom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3"/>
              </a:rPr>
              <a:t>Bud the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1st Century Ski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nd Learning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T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New Teac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WB Wik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E Teacher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Directions Wiki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21stcenturybps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Consi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sidine@boston.k12.ma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1st Century Progra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s are tal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029" descr="21stCent_Bridge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wikis be used in the classr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F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752480" y="1981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81800" y="13716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Based Learning (PB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Pro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ment: collaboratively build and edit project information in a centralized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: Collect all assignment details in one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: Plan out and manage a shared project calend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: Create a forum where team members can share and comment on id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ing: Create and edit an outline and rough draft right in the wiki — document versioning is built right 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ing: Compile research material and capture bibliography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ng: Share team contact information, post responsibilities, and send team updates through the onsite messaging fe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 Collab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Sharing: Post and comment on lesson plans and syllab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Resource Collection: Share your favorite online learning tools, blogs, websit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 Sharing: Post successful homework assignments, course materials, study guides, and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FAQ: Post and respond to questions on a given top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0:38:45Z</dcterms:created>
  <dc:creator>BPS OIIT</dc:creator>
  <dc:description/>
  <cp:keywords/>
  <dc:language>en-US</dc:language>
  <cp:lastModifiedBy>Ed  Considine</cp:lastModifiedBy>
  <dcterms:modified xsi:type="dcterms:W3CDTF">2008-09-17T14:28:38Z</dcterms:modified>
  <cp:revision>16</cp:revision>
  <dc:subject/>
  <dc:title>PowerPoint Presentation  -  Wild World of Wikis</dc:title>
</cp:coreProperties>
</file>