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30C0-AE5D-41A1-A470-F21787D6E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DE78-83A0-4F71-BCBD-2576B0938F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530E-98FC-4320-9D48-288B14F8A3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50B4-2110-456C-8397-3B59DFE945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 ideas for younger students (eleme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 annotated virtual library: 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llaborative book reviews or author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lementary class “encyclopedia” on a special topic, such as explorers or state history – to be continued and added to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ogue from a field trip or NON- 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or governmental processes: how a bill becomes a law,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iki “fan club” for you favorite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mily Twaditionwiki- elementary students share their family’s ways of preparing Thanksgiving dinner or celebrating birthdays (anonymously, of course) and compare them to practices in other cultures they read and lear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Where is Wanda wiki: a wiki version of the ever-favorite Flat Stanley project. Have each Wanda host post on the wiki, including the picture they take with Wanda during her visit. Even better: keep an ongoing Google Earth placemarker file to add geographic visuals to Wanda’s wonderful wanderings as a link in the wiki. WOW! Where in the world IS Wiki Wand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6A84-23B4-42CE-9108-CBC9DCAD7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y guides made by student groups for themselves and peers: 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cabulary lists and examples of the words in use, contributed by students (ongoing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iki as the organizational and intellectual epicenter of your class (see the Aristotle experiment)- Wiki all assignments, projects, collaboration, rubric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ducts of research projects, especially collaborative group projects: civil war battles, artistic movements, the American electoral process, diseases and prevention, etc. Remember that the products do not have to be simply writing. They can include computer files, images, videos, etc. Creating an organizational structure for the content is an important part i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nnotated collection of EXAMPLES from the non-school world for anything: supply/demand, capitalism, entrepreneurship, triangles, alliterations, vertebrates or invertebrates, etc. Include illustration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 Think Will Be on the Test wiki: a place to log review information for important concepts throughout the year, prior to taking the “high stakes” test, AP test, or final exam. Students add to it throughout the year and even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everything I needed to know I learned in Ms.Teachername’s class” wiki where students add their own observations of ways the class knowledge has spilled over into the “real world.” For example, a student might write about actually using a simple algebraic equation to figure out dimensions for cutting lumber or foamcore for a display or write about ways that her friend shows tragic hubris and is heading toward a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travelogue from a field trip or NON-field trip that the class would have liked to take as a culmination of a unit of study: Our (non) trip to the Capital and what we (wish) we s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ticles by students who miss school for family trips,  written about their travels on the class wiki, relating what they see to concepts learned before they left: mammals I saw on the way to Disney, geometric shapes in the Magic Kingdom, the most cost-effective lunches while traveling, etc. Remember: hotels usually have Internet access. Make the world a part of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FAQ (or NSFAQ- Not So Frequently Asked Questions) wiki on your current unit topic. Have students post KWL entries and continue adding questions that occur to them as the unit progresses. As other students add their “answers,” the wiki will evolve into a student-created guide to the topic. Example: Civil War FAQ or Biomes FAQ. You may find that the FAQ process can entirely supplant traditional classroom activities, especially if you seed a few questions as the teacher. This would also depend on whether you have consistent computer access on a daily basis, a luxury many schools do not hav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072F-57E4-4ABE-9A28-F0556D32CD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rum where team members can share and comment on ideas. : Create and edit an outline and rough draft right in the wiki — document versioning is built right in! Compile research material and capture bibliography information. : Share team contact information, post responsibilities, and send team updates through the onsite messaging fe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8D57-0AB7-4402-96FE-E0A3D244F9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A53-1999-4678-A595-97A0BE1BAF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0282-E544-4837-BAF5-68193CC78C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lculus wiki for those wicked-long problems so the class can collaborate on how to solve them (a “wick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geometry wiki for students to share and rewrite proofs (a geometwiki?). What a great way to see the different approaches to the sam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pplied math wiki: students write about and illustrate places where they actually used math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ocedures wiki: groups explain the steps to a mathematical procedure, such as factoring a polynomial or converting a decimal to a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e numbers wiki: student illustrate numbers in as many ways possible: as graphics to count, as mathematical expressions, etc. Elementary students can show graphic illustrations of multiplication facts, for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tudent- made glossary of scientific terms with illustrations and definitions added by the class (using original digital photos or those from other online Creative Commons sources, such as Flickr). Linking to separate pages with detailed information would allow the main glossary list to remain reasonably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axonomy of living things with information about each branch as you study Biology over a ful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signs of experiments (and resulting lab reports) for a chemistr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bservations from field sites, such as water-testing in local streams, weather observations from across your state, or bird counts during migratory season. Collaborate with othe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scientific processes: how mountains for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physics wiki for those wicked-long problems so the class can collaborate on how to solve them (a “wicked wiki”?).</a:t>
            </a: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362F-4D15-4884-9A5F-05A1672879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770D-53B9-4EE8-9406-65DC920941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mock-debate between candidates, in wiki form (composed entirely based on research students have done on the candidate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aborative project with students in another location or all over the world: A day in the life of an American/Japanese/French/Brazilian/Mexican family. (This one would require finding contacts in other location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collection of propaganda examples during a propagand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tailed and illustrated descriptions of governmental processes: how a bill becomes a law,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fan club” for your favorite president(s) or famous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rtual tour of your school as you study “our community” in elementary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local history wiki, 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 Perhaps the area historical society would provide some assistance, if you can get them to think beyond the closed stacks of their protected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document-the-veterans wiki for those in your community who served in the military. Interview them and photograph them, including both their accounts and your students’ documentation and personal reflections on the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travel brochure wiki: use wikis to “advertise” for different literary, historical, or cultural locations and time periods: Dickens’ London, fourteenth century in Italy in Verona and Mantua ( Romeo and Juliet),  The Oklahoma Territory, The Yukon during the Gold Rush, Ex-patriot Paris in the Twentie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0E29-1A8E-4BC9-8145-F34253C8A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A34C-53EF-4F37-985F-F6A7C29C6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935C-BC76-4894-AA6F-D27619FCB4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45AC8-82E8-4447-B0E4-D63F6469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F00C9-B111-4D70-AD36-B4CD35D16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778F7-9FFA-487C-9B4F-C018718A2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9EF49-5C30-4A2A-BA8A-EFEE3BFFA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6E518-67E0-43C9-8F74-E348B0C38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53399-0D81-4CE4-8DB5-0FCF1B7DB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E3304-DD17-489A-BA63-3EBECBC3F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BF25-0D9F-4D11-A841-ACD42DF96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33EA8-7F6B-4FED-ACC6-2B0B30AAC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A7312-FECB-475B-8D3C-34F808E2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ED511-00D5-4903-BE07-7CF97733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89842-3EAD-4FE5-B642-1FFA4D45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A101-4EFA-4441-9DBB-54E680E04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24F23-AEE2-47EE-922E-CC32EFD53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01C3E-E579-46A5-AE1D-D3FDF90A6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41A8D-FB66-4D13-95A7-25EB4D3E8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9C58B-EED4-4178-9C54-33129F858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27ACA-8255-444B-B424-C09555E8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4E191-A5BC-44FE-B114-712A3A521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6ED5E-7480-43C5-949F-A02EBE6EE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FEC34-9B42-4EFB-8071-47821EBAD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F52D-B7E0-48F0-8C88-CAEB5724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B8394-E2F9-44EA-A346-CC99BC36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6DEC-C339-4A75-83AC-16C437AB6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D7CD-25CE-4AC2-9E1B-5FC2D88D58DE}"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DB2B-C36A-48A1-A08A-4449D1B965D0}"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achertube.com/view_video.php?viewkey=c04c7bfc822caf7c7459" TargetMode="External"/><Relationship Id="rId3" Type="http://schemas.openxmlformats.org/officeDocument/2006/relationships/hyperlink" Target="http://mrlindsay.pbwiki.com/" TargetMode="External"/><Relationship Id="rId4" Type="http://schemas.openxmlformats.org/officeDocument/2006/relationships/hyperlink" Target="http://www.budtheteacher.com/wiki/index.php?title=Main_Page" TargetMode="External"/><Relationship Id="rId5" Type="http://schemas.openxmlformats.org/officeDocument/2006/relationships/hyperlink" Target="http://cgsmacbeth1.wetpaint.com/?t=anon" TargetMode="External"/><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ahistoryteacher.com/~ahistory/apwhreview/index.php?title=AP_World_History_Review_Wiki" TargetMode="External"/><Relationship Id="rId2" Type="http://schemas.openxmlformats.org/officeDocument/2006/relationships/image" Target="../media/image8.png"/><Relationship Id="rId3" Type="http://schemas.openxmlformats.org/officeDocument/2006/relationships/hyperlink" Target="http://coolcatteacher.blogspot.com/2005/12/wiki-wiki-teaching-art-of-using-wiki.html" TargetMode="External"/><Relationship Id="rId4" Type="http://schemas.openxmlformats.org/officeDocument/2006/relationships/image" Target="../media/image9.png"/><Relationship Id="rId5" Type="http://schemas.openxmlformats.org/officeDocument/2006/relationships/hyperlink" Target="http://schools.wikia.com/wiki/High_School_Online_Collaborative_Writing"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Picture 3" descr="Picture 9.png"/>
          <p:cNvPicPr/>
          <p:nvPr/>
        </p:nvPicPr>
        <p:blipFill>
          <a:blip r:embed="rId1"/>
          <a:stretch/>
        </p:blipFill>
        <p:spPr>
          <a:xfrm>
            <a:off x="0" y="0"/>
            <a:ext cx="9144000" cy="6248520"/>
          </a:xfrm>
          <a:prstGeom prst="rect">
            <a:avLst/>
          </a:prstGeom>
          <a:ln w="0">
            <a:noFill/>
          </a:ln>
        </p:spPr>
      </p:pic>
      <p:sp>
        <p:nvSpPr>
          <p:cNvPr id="220" name="TextBox 4"/>
          <p:cNvSpPr/>
          <p:nvPr/>
        </p:nvSpPr>
        <p:spPr>
          <a:xfrm>
            <a:off x="0" y="5410080"/>
            <a:ext cx="91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come to the Wild World of Wikis</a:t>
            </a:r>
            <a:br>
              <a:rPr sz="2400"/>
            </a:br>
            <a:r>
              <a:rPr b="0" lang="en-US" sz="2400" spc="-1" strike="noStrike">
                <a:solidFill>
                  <a:srgbClr val="ffffff"/>
                </a:solidFill>
                <a:latin typeface="Arial"/>
              </a:rPr>
              <a:t>Ed Consid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Public Schoo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se Product</a:t>
            </a:r>
            <a:endParaRPr b="0" lang="en-US" sz="4000" spc="-1" strike="noStrike">
              <a:solidFill>
                <a:srgbClr val="ffffff"/>
              </a:solidFill>
              <a:latin typeface="Arial"/>
            </a:endParaRPr>
          </a:p>
        </p:txBody>
      </p:sp>
      <p:sp>
        <p:nvSpPr>
          <p:cNvPr id="234" name=""/>
          <p:cNvSpPr txBox="1"/>
          <p:nvPr/>
        </p:nvSpPr>
        <p:spPr>
          <a:xfrm>
            <a:off x="571320" y="1981080"/>
            <a:ext cx="8001000" cy="3810240"/>
          </a:xfrm>
          <a:prstGeom prst="rect">
            <a:avLst/>
          </a:prstGeom>
          <a:noFill/>
          <a:ln w="0">
            <a:noFill/>
          </a:ln>
        </p:spPr>
        <p:txBody>
          <a:bodyPr anchor="t">
            <a:normAutofit fontScale="42000"/>
          </a:bodyPr>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Unit Titl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e Level:</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 Curriculum Plan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P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udent Technology Competenc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TE</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a:t>
            </a:r>
            <a:r>
              <a:rPr b="1" lang="en-US" sz="1200" spc="-1" strike="noStrike" baseline="30000">
                <a:solidFill>
                  <a:srgbClr val="ffffff"/>
                </a:solidFill>
                <a:latin typeface="Arial"/>
              </a:rPr>
              <a:t>st</a:t>
            </a:r>
            <a:r>
              <a:rPr b="1" lang="en-US" sz="1200" spc="-1" strike="noStrike">
                <a:solidFill>
                  <a:srgbClr val="ffffff"/>
                </a:solidFill>
                <a:latin typeface="Arial"/>
              </a:rPr>
              <a:t> Century Skil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standards that you will address with this uni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on Overview: Topic</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oa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tie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s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lude information on your topic, goals, kinds of activities and assessments. Also state how this lesson fits into the scope and sequence of the BPS curricula.</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  Technology Integrati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Tool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 the technology(ies) that are used in this lesson. Describe how teachers and/ or students are using the technology.</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ology Enhancing Teaching &amp; Learn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be how the technology(ies) listed above enhances this lesson plan. In other words, how does the tDoeechnology help students meet the standards/ goals; develop 21</a:t>
            </a:r>
            <a:r>
              <a:rPr b="1" lang="en-US" sz="1200" spc="-1" strike="noStrike" baseline="30000">
                <a:solidFill>
                  <a:srgbClr val="ffffff"/>
                </a:solidFill>
                <a:latin typeface="Arial"/>
              </a:rPr>
              <a:t>st</a:t>
            </a:r>
            <a:r>
              <a:rPr b="1" lang="en-US" sz="1200" spc="-1" strike="noStrike">
                <a:solidFill>
                  <a:srgbClr val="ffffff"/>
                </a:solidFill>
                <a:latin typeface="Arial"/>
              </a:rPr>
              <a:t> century skills; make activities more engaging; and/ or support assessmen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 III.  Logistics</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fety/Appropriate Use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trategies will you take to ensure student safety/appropriate use as you teach with technology?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ssroom Management</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classroom management strategies will contribute to the success of the lesson?</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ing</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scheduling considerations will need to be made?  Have all necessary technology resources and spaces been adequately secured?</a:t>
            </a:r>
            <a:endParaRPr b="0" lang="en-US" sz="1200" spc="-1" strike="noStrike">
              <a:solidFill>
                <a:srgbClr val="ffffff"/>
              </a:solidFill>
              <a:latin typeface="Arial"/>
            </a:endParaRPr>
          </a:p>
          <a:p>
            <a:pPr marL="190440" indent="-14796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b  2.0</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ad Write Web</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that allow users to create conte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s</a:t>
            </a:r>
            <a:endParaRPr b="0" lang="en-US" sz="3200" spc="-1" strike="noStrike">
              <a:solidFill>
                <a:srgbClr val="ffffff"/>
              </a:solidFill>
              <a:latin typeface="Arial"/>
            </a:endParaRPr>
          </a:p>
        </p:txBody>
      </p:sp>
      <p:pic>
        <p:nvPicPr>
          <p:cNvPr id="237" name="Picture 3" descr="distance learning paper image.JPG"/>
          <p:cNvPicPr/>
          <p:nvPr/>
        </p:nvPicPr>
        <p:blipFill>
          <a:blip r:embed="rId1"/>
          <a:stretch/>
        </p:blipFill>
        <p:spPr>
          <a:xfrm>
            <a:off x="5715000" y="1066680"/>
            <a:ext cx="247032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20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2" dur="2000"/>
                                        <p:tgtEl>
                                          <p:spTgt spid="23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1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tructing Knowledge</a:t>
            </a:r>
            <a:endParaRPr b="0" lang="en-US" sz="4000" spc="-1" strike="noStrike">
              <a:solidFill>
                <a:srgbClr val="ffffff"/>
              </a:solidFill>
              <a:latin typeface="Arial"/>
            </a:endParaRPr>
          </a:p>
        </p:txBody>
      </p:sp>
      <p:sp>
        <p:nvSpPr>
          <p:cNvPr id="239"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ion for learn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s as facilitator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n active, social proces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ng among learner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nd challenging the lear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us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43"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llaboration do you use in your classroom or do you see in your scho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enefits? The challeng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Picture 3" descr="Picture 8.png"/>
          <p:cNvPicPr/>
          <p:nvPr/>
        </p:nvPicPr>
        <p:blipFill>
          <a:blip r:embed="rId1"/>
          <a:stretch/>
        </p:blipFill>
        <p:spPr>
          <a:xfrm>
            <a:off x="0" y="453960"/>
            <a:ext cx="9144000" cy="595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wiki? </a:t>
            </a:r>
            <a:endParaRPr b="0" lang="en-US" sz="4000" spc="-1" strike="noStrike">
              <a:solidFill>
                <a:srgbClr val="ffffff"/>
              </a:solidFill>
              <a:latin typeface="Arial"/>
            </a:endParaRPr>
          </a:p>
        </p:txBody>
      </p:sp>
      <p:sp>
        <p:nvSpPr>
          <p:cNvPr id="246"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awaiian word for quickly</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ki is a type of website that allows the visitors to add, remove, and sometimes edit the available content.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on of web pages that can be edited by a group.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website that allows multiple users to create, modify and organize web page content in a collaborative mann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a collaborative website where the users are responsible for creating and maintaining the content.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Vs Blogs</a:t>
            </a:r>
            <a:endParaRPr b="0" lang="en-US" sz="4000" spc="-1" strike="noStrike">
              <a:solidFill>
                <a:srgbClr val="ffffff"/>
              </a:solidFill>
              <a:latin typeface="Arial"/>
            </a:endParaRPr>
          </a:p>
        </p:txBody>
      </p:sp>
      <p:sp>
        <p:nvSpPr>
          <p:cNvPr id="250" name=""/>
          <p:cNvSpPr txBox="1"/>
          <p:nvPr/>
        </p:nvSpPr>
        <p:spPr>
          <a:xfrm>
            <a:off x="533160" y="1676520"/>
            <a:ext cx="8001000" cy="3962160"/>
          </a:xfrm>
          <a:prstGeom prst="rect">
            <a:avLst/>
          </a:prstGeom>
          <a:noFill/>
          <a:ln w="0">
            <a:noFill/>
          </a:ln>
        </p:spPr>
        <p:txBody>
          <a:bodyPr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log, or web log, shares writing and multimedia content in the form of “posts” (starting point entries) and “comments” (responses to the posts). </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ki has a far more open structure and allows others to change what one person has written. This openness may trump individual opinion with group consensu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use wikis in education?</a:t>
            </a:r>
            <a:br>
              <a:rPr sz="4000"/>
            </a:b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encourage collaborative learning and  information shar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increase student engagement and particip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facilitate communication between teachers and parents and guardian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Picture 15.png">
            <a:hlinkClick r:id="rId1"/>
          </p:cNvPr>
          <p:cNvPicPr/>
          <p:nvPr/>
        </p:nvPicPr>
        <p:blipFill>
          <a:blip r:embed="rId2"/>
          <a:stretch/>
        </p:blipFill>
        <p:spPr>
          <a:xfrm>
            <a:off x="2362320" y="5791320"/>
            <a:ext cx="4317840" cy="53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Digital Tool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Standard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kis In Education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and Creat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s are talking</a:t>
            </a:r>
            <a:endParaRPr b="0" lang="en-US" sz="4000" spc="-1" strike="noStrike">
              <a:solidFill>
                <a:srgbClr val="ffffff"/>
              </a:solidFill>
              <a:latin typeface="Arial"/>
            </a:endParaRPr>
          </a:p>
        </p:txBody>
      </p:sp>
      <p:sp>
        <p:nvSpPr>
          <p:cNvPr id="25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Macintosh HD:Users:teacher:Documents:Wikis:Wiki teacehers.mp4" descr="/Users/teacher/Documents/Wikis/Wiki teacehers.mp4"/>
          <p:cNvPicPr/>
          <p:nvPr/>
        </p:nvPicPr>
        <p:blipFill>
          <a:blip r:embed="rId1"/>
          <a:stretch/>
        </p:blipFill>
        <p:spPr>
          <a:xfrm>
            <a:off x="1371600" y="1905120"/>
            <a:ext cx="6095880" cy="342900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256"/>
                    </p:tgtEl>
                  </p:cond>
                </p:stCondLst>
                <p:childTnLst>
                  <p:par>
                    <p:cTn id="20" fill="hold">
                      <p:stCondLst>
                        <p:cond evt="onClick">
                          <p:tgtEl>
                            <p:spTgt spid="256"/>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wikis be used in the classroom?</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rojec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 Coll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Review</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FAQ</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 involvem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paper</a:t>
            </a:r>
            <a:endParaRPr b="0" lang="en-US" sz="2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2000"/>
                                  </p:stCondLst>
                                  <p:childTnLst>
                                    <p:set>
                                      <p:cBhvr>
                                        <p:cTn id="29"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0" dur="2000"/>
                                        <p:tgtEl>
                                          <p:spTgt spid="2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2000"/>
                                  </p:stCondLst>
                                  <p:childTnLst>
                                    <p:set>
                                      <p:cBhvr>
                                        <p:cTn id="3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5" dur="2000"/>
                                        <p:tgtEl>
                                          <p:spTgt spid="2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2000"/>
                                  </p:stCondLst>
                                  <p:childTnLst>
                                    <p:set>
                                      <p:cBhvr>
                                        <p:cTn id="3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40" dur="2000"/>
                                        <p:tgtEl>
                                          <p:spTgt spid="2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2000"/>
                                  </p:stCondLst>
                                  <p:childTnLst>
                                    <p:set>
                                      <p:cBhvr>
                                        <p:cTn id="44" dur="1" fill="hold">
                                          <p:stCondLst>
                                            <p:cond delay="0"/>
                                          </p:stCondLst>
                                        </p:cTn>
                                        <p:tgtEl>
                                          <p:spTgt spid="258">
                                            <p:txEl>
                                              <p:pRg st="3" end="3"/>
                                            </p:txEl>
                                          </p:spTgt>
                                        </p:tgtEl>
                                        <p:attrNameLst>
                                          <p:attrName>style.visibility</p:attrName>
                                        </p:attrNameLst>
                                      </p:cBhvr>
                                      <p:to>
                                        <p:strVal val="visible"/>
                                      </p:to>
                                    </p:set>
                                    <p:animEffect filter="fade" transition="in">
                                      <p:cBhvr additive="repl">
                                        <p:cTn id="45" dur="2000"/>
                                        <p:tgtEl>
                                          <p:spTgt spid="2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2000"/>
                                  </p:stCondLst>
                                  <p:childTnLst>
                                    <p:set>
                                      <p:cBhvr>
                                        <p:cTn id="4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50" dur="2000"/>
                                        <p:tgtEl>
                                          <p:spTgt spid="258">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2000"/>
                                  </p:stCondLst>
                                  <p:childTnLst>
                                    <p:set>
                                      <p:cBhvr>
                                        <p:cTn id="54" dur="1" fill="hold">
                                          <p:stCondLst>
                                            <p:cond delay="0"/>
                                          </p:stCondLst>
                                        </p:cTn>
                                        <p:tgtEl>
                                          <p:spTgt spid="258">
                                            <p:txEl>
                                              <p:pRg st="5" end="5"/>
                                            </p:txEl>
                                          </p:spTgt>
                                        </p:tgtEl>
                                        <p:attrNameLst>
                                          <p:attrName>style.visibility</p:attrName>
                                        </p:attrNameLst>
                                      </p:cBhvr>
                                      <p:to>
                                        <p:strVal val="visible"/>
                                      </p:to>
                                    </p:set>
                                    <p:animEffect filter="fade" transition="in">
                                      <p:cBhvr additive="repl">
                                        <p:cTn id="55" dur="2000"/>
                                        <p:tgtEl>
                                          <p:spTgt spid="258">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2000"/>
                                  </p:stCondLst>
                                  <p:childTnLst>
                                    <p:set>
                                      <p:cBhvr>
                                        <p:cTn id="59"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0" dur="20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Projects</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Avoid confusing email chains by collaboratively building and editing project information in a centralized location.</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Collect all assignment details in one pl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Plan out and manage a shared project calendar.</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304560"/>
            <a:ext cx="8001000" cy="563868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er Collaboration</a:t>
            </a:r>
            <a:endParaRPr b="0" lang="en-US" sz="4000" spc="-1" strike="noStrike">
              <a:solidFill>
                <a:srgbClr val="ffffff"/>
              </a:solidFill>
              <a:latin typeface="Arial"/>
            </a:endParaRPr>
          </a:p>
        </p:txBody>
      </p:sp>
      <p:sp>
        <p:nvSpPr>
          <p:cNvPr id="263" name="PlaceHolder 2"/>
          <p:cNvSpPr>
            <a:spLocks noGrp="1"/>
          </p:cNvSpPr>
          <p:nvPr>
            <p:ph/>
          </p:nvPr>
        </p:nvSpPr>
        <p:spPr>
          <a:xfrm>
            <a:off x="456840" y="1752480"/>
            <a:ext cx="8001000" cy="3810240"/>
          </a:xfrm>
          <a:prstGeom prst="rect">
            <a:avLst/>
          </a:prstGeom>
          <a:noFill/>
          <a:ln w="0">
            <a:noFill/>
          </a:ln>
        </p:spPr>
        <p:txBody>
          <a:bodyPr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urriculum Sharing: Post and comment on lesson plans and syllabi.</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ine Resource Collection: Share your favorite online learning tools, blogs, websites, etc.</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120" y="2057040"/>
            <a:ext cx="8001000" cy="3809880"/>
          </a:xfrm>
          <a:prstGeom prst="rect">
            <a:avLst/>
          </a:prstGeom>
          <a:noFill/>
          <a:ln w="0">
            <a:noFill/>
          </a:ln>
        </p:spPr>
        <p:txBody>
          <a:bodyPr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Sharing: Post successful homework, course materials, study guides, and more.</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oup FAQ: Post and respond to questions on a given topic. </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6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rather than consum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not passive learning</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re’s what  some teachers say:</a:t>
            </a:r>
            <a:endParaRPr b="0" lang="en-US" sz="4000" spc="-1" strike="noStrike">
              <a:solidFill>
                <a:srgbClr val="ffffff"/>
              </a:solidFill>
              <a:latin typeface="Arial"/>
            </a:endParaRPr>
          </a:p>
        </p:txBody>
      </p:sp>
      <p:sp>
        <p:nvSpPr>
          <p:cNvPr id="268"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Never in 25 years of teaching have I seen a more powerful motivator for writing than blogs and wikis.” … “And that’s because of the audience. Writing is not just taped on the refrigerator and then put in the recycle bin. It’s out there for the world to see. Kids realize other people are reading what they write” – Mark Ahlness</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Even when they’re out sick, students work on their blogs.” – Carol Barsotti</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ve got 6th graders coming in during their lunch and after school to add articles to their blog and to respond to their classmates’ articles.” – Al Gonzalez</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esponse has been tremendous. Students seem so much more willing to blog in their own space and time. They seem less inhibited and more enthusiastic.” – Beth Lynne Ritter-Guth</a:t>
            </a: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3960" indent="-352440">
              <a:lnSpc>
                <a:spcPct val="110000"/>
              </a:lnSpc>
              <a:spcBef>
                <a:spcPts val="3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6858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kis in Action </a:t>
            </a:r>
            <a:endParaRPr b="0" lang="en-US" sz="4000" spc="-1" strike="noStrike">
              <a:solidFill>
                <a:srgbClr val="ffffff"/>
              </a:solidFill>
              <a:latin typeface="Arial"/>
            </a:endParaRPr>
          </a:p>
        </p:txBody>
      </p:sp>
      <p:sp>
        <p:nvSpPr>
          <p:cNvPr id="270"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Wikipedia</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2"/>
              </a:rPr>
              <a:t>Video</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3"/>
              </a:rPr>
              <a:t>Classroom Wiki</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4"/>
              </a:rPr>
              <a:t>Bud the Teach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5"/>
              </a:rPr>
              <a:t>Grammar School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ources</a:t>
            </a:r>
            <a:endParaRPr b="0" lang="en-US" sz="4000" spc="-1" strike="noStrike">
              <a:solidFill>
                <a:srgbClr val="ffffff"/>
              </a:solidFill>
              <a:latin typeface="Arial"/>
            </a:endParaRPr>
          </a:p>
        </p:txBody>
      </p:sp>
      <p:sp>
        <p:nvSpPr>
          <p:cNvPr id="272" name="PlaceHolder 2"/>
          <p:cNvSpPr>
            <a:spLocks noGrp="1"/>
          </p:cNvSpPr>
          <p:nvPr>
            <p:ph/>
          </p:nvPr>
        </p:nvSpPr>
        <p:spPr>
          <a:xfrm>
            <a:off x="571320" y="1980720"/>
            <a:ext cx="8001000" cy="39625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3" descr="Picture 20.png">
            <a:hlinkClick r:id="rId1"/>
          </p:cNvPr>
          <p:cNvPicPr/>
          <p:nvPr/>
        </p:nvPicPr>
        <p:blipFill>
          <a:blip r:embed="rId2"/>
          <a:stretch/>
        </p:blipFill>
        <p:spPr>
          <a:xfrm>
            <a:off x="6934320" y="1981080"/>
            <a:ext cx="1511280" cy="1582920"/>
          </a:xfrm>
          <a:prstGeom prst="rect">
            <a:avLst/>
          </a:prstGeom>
          <a:ln w="0">
            <a:noFill/>
          </a:ln>
        </p:spPr>
      </p:pic>
      <p:pic>
        <p:nvPicPr>
          <p:cNvPr id="274" name="Picture 4" descr="Picture 21.png">
            <a:hlinkClick r:id="rId3"/>
          </p:cNvPr>
          <p:cNvPicPr/>
          <p:nvPr/>
        </p:nvPicPr>
        <p:blipFill>
          <a:blip r:embed="rId4"/>
          <a:stretch/>
        </p:blipFill>
        <p:spPr>
          <a:xfrm>
            <a:off x="762120" y="4495680"/>
            <a:ext cx="5003640" cy="1320840"/>
          </a:xfrm>
          <a:prstGeom prst="rect">
            <a:avLst/>
          </a:prstGeom>
          <a:ln w="0">
            <a:noFill/>
          </a:ln>
        </p:spPr>
      </p:pic>
      <p:pic>
        <p:nvPicPr>
          <p:cNvPr id="275" name="Picture 5" descr="Picture 22.png">
            <a:hlinkClick r:id="rId5"/>
          </p:cNvPr>
          <p:cNvPicPr/>
          <p:nvPr/>
        </p:nvPicPr>
        <p:blipFill>
          <a:blip r:embed="rId6"/>
          <a:stretch/>
        </p:blipFill>
        <p:spPr>
          <a:xfrm>
            <a:off x="6781680" y="3886200"/>
            <a:ext cx="1739880" cy="2019240"/>
          </a:xfrm>
          <a:prstGeom prst="rect">
            <a:avLst/>
          </a:prstGeom>
          <a:ln w="0">
            <a:noFill/>
          </a:ln>
        </p:spPr>
      </p:pic>
      <p:pic>
        <p:nvPicPr>
          <p:cNvPr id="276" name="Picture 6" descr="Picture 23.png"/>
          <p:cNvPicPr/>
          <p:nvPr/>
        </p:nvPicPr>
        <p:blipFill>
          <a:blip r:embed="rId7"/>
          <a:stretch/>
        </p:blipFill>
        <p:spPr>
          <a:xfrm>
            <a:off x="990720" y="3276720"/>
            <a:ext cx="3759120" cy="990360"/>
          </a:xfrm>
          <a:prstGeom prst="rect">
            <a:avLst/>
          </a:prstGeom>
          <a:ln w="0">
            <a:noFill/>
          </a:ln>
        </p:spPr>
      </p:pic>
      <p:pic>
        <p:nvPicPr>
          <p:cNvPr id="277" name="Picture 7" descr="Picture 24.png"/>
          <p:cNvPicPr/>
          <p:nvPr/>
        </p:nvPicPr>
        <p:blipFill>
          <a:blip r:embed="rId8"/>
          <a:stretch/>
        </p:blipFill>
        <p:spPr>
          <a:xfrm>
            <a:off x="4114800" y="2209680"/>
            <a:ext cx="2095560" cy="749520"/>
          </a:xfrm>
          <a:prstGeom prst="rect">
            <a:avLst/>
          </a:prstGeom>
          <a:ln w="0">
            <a:noFill/>
          </a:ln>
        </p:spPr>
      </p:pic>
      <p:pic>
        <p:nvPicPr>
          <p:cNvPr id="278" name="Picture 8" descr="Picture 25.png"/>
          <p:cNvPicPr/>
          <p:nvPr/>
        </p:nvPicPr>
        <p:blipFill>
          <a:blip r:embed="rId9"/>
          <a:stretch/>
        </p:blipFill>
        <p:spPr>
          <a:xfrm>
            <a:off x="1295280" y="2209680"/>
            <a:ext cx="1905120" cy="6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TE Teacher Standards</a:t>
            </a:r>
            <a:endParaRPr b="0" lang="en-US" sz="4000" spc="-1" strike="noStrike">
              <a:solidFill>
                <a:srgbClr val="ffffff"/>
              </a:solidFill>
              <a:latin typeface="Arial"/>
            </a:endParaRPr>
          </a:p>
        </p:txBody>
      </p:sp>
      <p:sp>
        <p:nvSpPr>
          <p:cNvPr id="224"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TS for Teachers ”</a:t>
            </a:r>
            <a:endParaRPr b="0" lang="en-US" sz="3200" spc="-1" strike="noStrike">
              <a:solidFill>
                <a:srgbClr val="ffffff"/>
              </a:solidFill>
              <a:latin typeface="Arial"/>
            </a:endParaRPr>
          </a:p>
          <a:p>
            <a:pPr marL="453960" indent="-352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cludes five categories </a:t>
            </a:r>
            <a:endParaRPr b="0" lang="en-US" sz="3200" spc="-1" strike="noStrike">
              <a:solidFill>
                <a:srgbClr val="ffffff"/>
              </a:solidFill>
              <a:latin typeface="Arial"/>
            </a:endParaRPr>
          </a:p>
        </p:txBody>
      </p:sp>
      <p:pic>
        <p:nvPicPr>
          <p:cNvPr id="225" name="Picture 4" descr="Picture 3.png">
            <a:hlinkClick r:id="rId1"/>
          </p:cNvPr>
          <p:cNvPicPr/>
          <p:nvPr/>
        </p:nvPicPr>
        <p:blipFill>
          <a:blip r:embed="rId2"/>
          <a:stretch/>
        </p:blipFill>
        <p:spPr>
          <a:xfrm>
            <a:off x="2362320" y="4114800"/>
            <a:ext cx="4546440" cy="1130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Quizz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tube</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podcast</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ct:</a:t>
            </a:r>
            <a:endParaRPr b="0" lang="en-US" sz="4000" spc="-1" strike="noStrike">
              <a:solidFill>
                <a:srgbClr val="ffffff"/>
              </a:solidFill>
              <a:latin typeface="Arial"/>
            </a:endParaRPr>
          </a:p>
        </p:txBody>
      </p:sp>
      <p:sp>
        <p:nvSpPr>
          <p:cNvPr id="281"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st Century Wiki</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Considin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nsidine@boston.k12.ma.u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txBox="1"/>
          <p:nvPr/>
        </p:nvSpPr>
        <p:spPr>
          <a:xfrm>
            <a:off x="609120" y="456840"/>
            <a:ext cx="8001000" cy="6629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acilitate and inspire student learning and creativit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txBox="1"/>
          <p:nvPr/>
        </p:nvSpPr>
        <p:spPr>
          <a:xfrm>
            <a:off x="533160" y="2971440"/>
            <a:ext cx="8001000" cy="205740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sign and develop digital-age learning experiences and assessments,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txBox="1"/>
          <p:nvPr/>
        </p:nvSpPr>
        <p:spPr>
          <a:xfrm>
            <a:off x="609120" y="456840"/>
            <a:ext cx="8001000" cy="10666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odel digital-age work and learning,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txBox="1"/>
          <p:nvPr/>
        </p:nvSpPr>
        <p:spPr>
          <a:xfrm>
            <a:off x="609120" y="2742840"/>
            <a:ext cx="8001000" cy="152388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mote and model digital citizenship and responsibility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txBox="1"/>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Engage in professional growth and leadershi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SAT Skills</a:t>
            </a:r>
            <a:endParaRPr b="0" lang="en-US" sz="4000" spc="-1" strike="noStrike">
              <a:solidFill>
                <a:srgbClr val="ffffff"/>
              </a:solidFill>
              <a:latin typeface="Arial"/>
            </a:endParaRPr>
          </a:p>
        </p:txBody>
      </p:sp>
      <p:sp>
        <p:nvSpPr>
          <p:cNvPr id="232" name=""/>
          <p:cNvSpPr txBox="1"/>
          <p:nvPr/>
        </p:nvSpPr>
        <p:spPr>
          <a:xfrm>
            <a:off x="533160" y="1523880"/>
            <a:ext cx="8001000" cy="464832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nd evaluate developing technologies as they relate to one's subject area, grade level and student populatio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web pages for instruction and communication.</a:t>
            </a:r>
            <a:r>
              <a:rPr b="0" lang="en-US" sz="2800" spc="-1" strike="noStrike">
                <a:solidFill>
                  <a:srgbClr val="000000"/>
                </a:solidFill>
                <a:latin typeface="Arial"/>
                <a:ea typeface="Arial"/>
              </a:rPr>
              <a:t>ret I</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ffffff"/>
                </a:solidFill>
                <a:latin typeface="Arial"/>
                <a:ea typeface="Arial"/>
              </a:rPr>
              <a:t>Using the most appropriate communications technologies (e.g., multimedia presentations, Web pages, digital videotapes, desktop-published documen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8:00:09Z</dcterms:created>
  <dc:creator>BPS OIIT</dc:creator>
  <dc:description/>
  <dc:language>en-US</dc:language>
  <cp:lastModifiedBy>Ed  Considine</cp:lastModifiedBy>
  <dcterms:modified xsi:type="dcterms:W3CDTF">2008-11-18T18:32:11Z</dcterms:modified>
  <cp:revision>144</cp:revision>
  <dc:subject/>
  <dc:title>Wild World of Wikis</dc:title>
</cp:coreProperties>
</file>