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ct" ContentType="image/x-pict"/>
  <Override PartName="/ppt/media/image4.png" ContentType="image/pn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13CA-3098-4234-9FE8-B010CE49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AEEF-C22E-4C0F-9602-D31517AAAC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C190-09EB-4275-90B0-1E79781993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9CB6-7FC3-42E1-953F-CB625306D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0752-784E-411F-B607-EA7D0BA10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D84A-1D56-48F2-A311-8CEC3A6148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C1C0-C1C5-4C93-9274-15C20BBFFB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3AC9-33BC-4CD7-A041-260EFC5B79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1F5C-00F2-4D79-A0ED-036110C24C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50C6-D004-4715-81F5-8AE870CAE5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0B9E-F620-43D8-BFB4-4D1D6443D0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3F44-24BB-4E06-B86A-145AF782AC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Literacy critical think, creativity nd innovation,comm.and info.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ethics, accountability, adaptability, self direc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71E9-CB2C-416E-A079-0FC853963C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9641-9E35-4097-8886-58033DA65E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5BE3-0CA2-4414-9204-4314F11E50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9BA3C-8B2F-45AF-8CEC-E02BC5D34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D88E-9083-431E-AD37-A9A549B7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71AA-B6EA-48CF-8BD1-C915A8E11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3BD77-0148-4A35-BA19-E2E70A021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F7529-3CBE-450C-9F28-CA0FC9F01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43B5F-8F01-451A-A435-423A3DC60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9D9E6-61CB-4E6E-B5B3-3E461D12F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8CAA9-B57E-4F47-9EAF-03D33DE04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3A999-917D-46CF-9286-1C507B47B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46289-8DFB-4319-B4EC-EBB18A8EF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3558E-357F-43AA-9F12-E896F8356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560AC-5660-4398-A6E2-6C97477C1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5144E-E849-42EC-AF28-23C27AB86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B5F84-F80A-442A-A20F-5455D42A8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A251D-98A0-4CEF-8945-D0E55EBC6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53D43-B372-42D1-A42F-8315AA6F9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5988C-BA3C-4850-89AC-F2FB696F0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5B90-034E-4FC7-AEF8-CE71F81F3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13079-3D10-49B6-9E9B-EBB88352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B253-4005-4788-853E-FD52DBEBC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00600-B4D6-431D-B986-0061551E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66C4-F19D-479B-8B88-C782148D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41E7-E0EE-4DBD-8364-12CD2FE6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1CF8-C1B5-441E-A2D1-1DF2610BA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C334-782A-4EE7-8371-0F14A7BA0A1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CBD4-5F64-43CF-A546-FB4431C21206}"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9.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10.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1.png"/><Relationship Id="rId7" Type="http://schemas.openxmlformats.org/officeDocument/2006/relationships/hyperlink" Target="http://www.edweek.org/dd/articles/2007/09/12/02wiki.h01.html"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5"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4">
                                            <p:txEl>
                                              <p:pRg st="0" end="0"/>
                                            </p:txEl>
                                          </p:spTgt>
                                        </p:tgtEl>
                                        <p:attrNameLst>
                                          <p:attrName>style.visibility</p:attrName>
                                        </p:attrNameLst>
                                      </p:cBhvr>
                                      <p:to>
                                        <p:strVal val="visible"/>
                                      </p:to>
                                    </p:set>
                                    <p:animEffect filter="fade" transition="in">
                                      <p:cBhvr additive="repl">
                                        <p:cTn id="7" dur="2000"/>
                                        <p:tgtEl>
                                          <p:spTgt spid="2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2" dur="2000"/>
                                        <p:tgtEl>
                                          <p:spTgt spid="23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7"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7"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Picture 3" descr="Picture 8.png"/>
          <p:cNvPicPr/>
          <p:nvPr/>
        </p:nvPicPr>
        <p:blipFill>
          <a:blip r:embed="rId1"/>
          <a:stretch/>
        </p:blipFill>
        <p:spPr>
          <a:xfrm>
            <a:off x="0" y="453960"/>
            <a:ext cx="9144000" cy="595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4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log, or web log, shares writing and multimedia content in the form of “posts” (starting point entries) and “comments” (responses to the post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4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5"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8"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48"/>
                    </p:tgtEl>
                  </p:cond>
                </p:stCondLst>
                <p:childTnLst>
                  <p:par>
                    <p:cTn id="20" fill="hold">
                      <p:stCondLst>
                        <p:cond evt="onClick">
                          <p:tgtEl>
                            <p:spTgt spid="248"/>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30" dur="2000"/>
                                        <p:tgtEl>
                                          <p:spTgt spid="25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35" dur="2000"/>
                                        <p:tgtEl>
                                          <p:spTgt spid="250">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40" dur="2000"/>
                                        <p:tgtEl>
                                          <p:spTgt spid="250">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45" dur="2000"/>
                                        <p:tgtEl>
                                          <p:spTgt spid="250">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0">
                                            <p:txEl>
                                              <p:pRg st="4" end="4"/>
                                            </p:txEl>
                                          </p:spTgt>
                                        </p:tgtEl>
                                        <p:attrNameLst>
                                          <p:attrName>style.visibility</p:attrName>
                                        </p:attrNameLst>
                                      </p:cBhvr>
                                      <p:to>
                                        <p:strVal val="visible"/>
                                      </p:to>
                                    </p:set>
                                    <p:animEffect filter="fade" transition="in">
                                      <p:cBhvr additive="repl">
                                        <p:cTn id="50" dur="2000"/>
                                        <p:tgtEl>
                                          <p:spTgt spid="250">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5" dur="2000"/>
                                        <p:tgtEl>
                                          <p:spTgt spid="250">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60" dur="2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 Create a forum where team members can share and comment on idea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 Create and edit an outline and rough draft right in the wiki — document versioning is built right i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 Compile research material and capture bibliography inform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 Share team contact information, post responsibilities, and send team updates through the onsite messaging feature.</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55"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6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1st Century Skills</a:t>
            </a:r>
            <a:endParaRPr b="0" lang="en-US" sz="4000" spc="-1" strike="noStrike">
              <a:solidFill>
                <a:srgbClr val="ffffff"/>
              </a:solidFill>
              <a:latin typeface="Arial"/>
            </a:endParaRPr>
          </a:p>
        </p:txBody>
      </p:sp>
      <p:sp>
        <p:nvSpPr>
          <p:cNvPr id="264"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ing and Learning Skil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T Literac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Skills</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66"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68"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69"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0" name="Picture 6" descr="Picture 23.png">
            <a:hlinkClick r:id="rId7"/>
          </p:cNvPr>
          <p:cNvPicPr/>
          <p:nvPr/>
        </p:nvPicPr>
        <p:blipFill>
          <a:blip r:embed="rId8"/>
          <a:stretch/>
        </p:blipFill>
        <p:spPr>
          <a:xfrm>
            <a:off x="990720" y="3276720"/>
            <a:ext cx="3759120" cy="990360"/>
          </a:xfrm>
          <a:prstGeom prst="rect">
            <a:avLst/>
          </a:prstGeom>
          <a:ln w="0">
            <a:noFill/>
          </a:ln>
        </p:spPr>
      </p:pic>
      <p:pic>
        <p:nvPicPr>
          <p:cNvPr id="271" name="Picture 7" descr="Picture 24.png"/>
          <p:cNvPicPr/>
          <p:nvPr/>
        </p:nvPicPr>
        <p:blipFill>
          <a:blip r:embed="rId9"/>
          <a:stretch/>
        </p:blipFill>
        <p:spPr>
          <a:xfrm>
            <a:off x="4114800" y="2209680"/>
            <a:ext cx="2095560" cy="749520"/>
          </a:xfrm>
          <a:prstGeom prst="rect">
            <a:avLst/>
          </a:prstGeom>
          <a:ln w="0">
            <a:noFill/>
          </a:ln>
        </p:spPr>
      </p:pic>
      <p:pic>
        <p:nvPicPr>
          <p:cNvPr id="272" name="Picture 8" descr="Picture 25.png"/>
          <p:cNvPicPr/>
          <p:nvPr/>
        </p:nvPicPr>
        <p:blipFill>
          <a:blip r:embed="rId10"/>
          <a:stretch/>
        </p:blipFill>
        <p:spPr>
          <a:xfrm>
            <a:off x="1295280" y="2209680"/>
            <a:ext cx="1905120" cy="622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091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75"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21stcenturybps.wikispaces.com</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32" name="Content Placeholder 3" descr="Picture 26.png"/>
          <p:cNvPicPr/>
          <p:nvPr/>
        </p:nvPicPr>
        <p:blipFill>
          <a:blip r:embed="rId1"/>
          <a:stretch/>
        </p:blipFill>
        <p:spPr>
          <a:xfrm>
            <a:off x="1295280" y="1752480"/>
            <a:ext cx="6158160" cy="4299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39:38Z</dcterms:created>
  <dc:creator>BPS OIIT</dc:creator>
  <dc:description/>
  <dc:language>en-US</dc:language>
  <cp:lastModifiedBy>Ed  Considine</cp:lastModifiedBy>
  <dcterms:modified xsi:type="dcterms:W3CDTF">2008-11-17T19:35:12Z</dcterms:modified>
  <cp:revision>135</cp:revision>
  <dc:subject/>
  <dc:title>Wild World of Wikis</dc:title>
</cp:coreProperties>
</file>