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ct" ContentType="image/x-pict"/>
  <Override PartName="/ppt/media/image4.png" ContentType="image/pn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3327-C547-43BA-A542-E73FECF69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C9C9-0771-46F5-9A8C-070081D37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CF8A-9FA8-4D79-A857-FE18107137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711C-7A35-47D9-8CAA-2AF9C0A3D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7B81-7920-4DC0-BDC7-F8E59DD8EB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2FA7-82E5-4141-9BFB-980963E7AE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7D75-D4D3-4BE9-9B3E-719019E8AD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71B2-8D7E-4B2B-9BD7-DF6C33183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30B5-B9EE-41F3-AB35-0C4C752066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ADEA-F42C-4B51-B296-274A321DB9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C5A2-0B7E-49E3-BED5-CE88376C6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7656-A753-46FC-82BF-20EA84223D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Literacy critical think, creativity nd innovation,comm.and info.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ethics, accountability, adaptability, self dire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59D7-34E6-4021-94B7-63D574D784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F257-C3EB-448E-9D67-B4547BFF42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8239-44BA-4746-A238-99C80D5CC3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D5D7C-891D-4DC6-ABAB-61F65F8BC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04F1-8AC3-425E-BFA3-ED04C89ED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FA5B0-E3D7-4DDE-A4AF-2A7BE68C0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482B9-04B9-4D89-8FC7-5B60C5F45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0F3B8-28DD-4C1B-B39D-3F15C1B4F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CE25-5940-4C82-8722-2D12FF7EC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B4338-0AB5-45F9-9302-5FCCC1FF1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CAB0A-5EBE-452C-BBCE-C8A08DC81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4448-36B0-4299-92A7-F0E68902D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771CF-176B-43B1-95F5-0E11D6A1F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E495E-FCC2-4EB0-8297-84544C57D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1862E-D4D1-4EEC-84EB-B8E3F2D0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6D292-6561-44B1-9EEE-9E77686FF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E3F89-1EE8-4302-AF89-3511A810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FCE81-1822-40CF-BD3A-82356D1C1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34A89-1C1B-4A8F-B927-D0E4E5224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9C804-8FD9-46A2-9139-A3555503B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2CDA-09EF-45D4-A9AD-3F385F59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624E-C28C-444B-8732-99F24BCD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58AB-46A3-47E1-9D4D-41927A6A4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76D9-1071-4F1B-BBCE-DC5E9151B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982D-52B3-463C-8185-D1D931E1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F477-02C1-45E1-BF18-DE02398C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C510-72A6-4E6F-9221-8D9662BAA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A421-2155-461E-ABE9-3BE067490F7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0ABA-9D66-47B2-899B-20E8E9A105A7}"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9.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10.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1.png"/><Relationship Id="rId7" Type="http://schemas.openxmlformats.org/officeDocument/2006/relationships/hyperlink" Target="http://www.edweek.org/dd/articles/2007/09/12/02wiki.h01.html"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5"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 dur="2000"/>
                                        <p:tgtEl>
                                          <p:spTgt spid="2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 dur="2000"/>
                                        <p:tgtEl>
                                          <p:spTgt spid="23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7"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Picture 3" descr="Picture 8.png"/>
          <p:cNvPicPr/>
          <p:nvPr/>
        </p:nvPicPr>
        <p:blipFill>
          <a:blip r:embed="rId1"/>
          <a:stretch/>
        </p:blipFill>
        <p:spPr>
          <a:xfrm>
            <a:off x="0" y="453960"/>
            <a:ext cx="9144000" cy="595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4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log, or web log, shares writing and multimedia content in the form of “posts” (starting point entries) and “comments” (responses to the post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4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8"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48"/>
                    </p:tgtEl>
                  </p:cond>
                </p:stCondLst>
                <p:childTnLst>
                  <p:par>
                    <p:cTn id="20" fill="hold">
                      <p:stCondLst>
                        <p:cond evt="onClick">
                          <p:tgtEl>
                            <p:spTgt spid="24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30" dur="2000"/>
                                        <p:tgtEl>
                                          <p:spTgt spid="25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35" dur="2000"/>
                                        <p:tgtEl>
                                          <p:spTgt spid="250">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40" dur="2000"/>
                                        <p:tgtEl>
                                          <p:spTgt spid="25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45" dur="2000"/>
                                        <p:tgtEl>
                                          <p:spTgt spid="250">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50" dur="2000"/>
                                        <p:tgtEl>
                                          <p:spTgt spid="250">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5" dur="2000"/>
                                        <p:tgtEl>
                                          <p:spTgt spid="250">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60" dur="2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Create a forum where team members can share and comment on idea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 Create and edit an outline and rough draft right in the wiki — document versioning is built right i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 Compile research material and capture bibliography inform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 Share team contact information, post responsibilities, and send team updates through the onsite messaging feature.</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55"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6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1st Century Skills</a:t>
            </a:r>
            <a:endParaRPr b="0" lang="en-US" sz="4000" spc="-1" strike="noStrike">
              <a:solidFill>
                <a:srgbClr val="ffffff"/>
              </a:solidFill>
              <a:latin typeface="Arial"/>
            </a:endParaRPr>
          </a:p>
        </p:txBody>
      </p:sp>
      <p:sp>
        <p:nvSpPr>
          <p:cNvPr id="264"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ing and Learning Skil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Literac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kills</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66"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68"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69"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0" name="Picture 6" descr="Picture 23.png">
            <a:hlinkClick r:id="rId7"/>
          </p:cNvPr>
          <p:cNvPicPr/>
          <p:nvPr/>
        </p:nvPicPr>
        <p:blipFill>
          <a:blip r:embed="rId8"/>
          <a:stretch/>
        </p:blipFill>
        <p:spPr>
          <a:xfrm>
            <a:off x="990720" y="3276720"/>
            <a:ext cx="3759120" cy="990360"/>
          </a:xfrm>
          <a:prstGeom prst="rect">
            <a:avLst/>
          </a:prstGeom>
          <a:ln w="0">
            <a:noFill/>
          </a:ln>
        </p:spPr>
      </p:pic>
      <p:pic>
        <p:nvPicPr>
          <p:cNvPr id="271" name="Picture 7" descr="Picture 24.png"/>
          <p:cNvPicPr/>
          <p:nvPr/>
        </p:nvPicPr>
        <p:blipFill>
          <a:blip r:embed="rId9"/>
          <a:stretch/>
        </p:blipFill>
        <p:spPr>
          <a:xfrm>
            <a:off x="4114800" y="2209680"/>
            <a:ext cx="2095560" cy="749520"/>
          </a:xfrm>
          <a:prstGeom prst="rect">
            <a:avLst/>
          </a:prstGeom>
          <a:ln w="0">
            <a:noFill/>
          </a:ln>
        </p:spPr>
      </p:pic>
      <p:pic>
        <p:nvPicPr>
          <p:cNvPr id="272" name="Picture 8" descr="Picture 25.png"/>
          <p:cNvPicPr/>
          <p:nvPr/>
        </p:nvPicPr>
        <p:blipFill>
          <a:blip r:embed="rId10"/>
          <a:stretch/>
        </p:blipFill>
        <p:spPr>
          <a:xfrm>
            <a:off x="1295280" y="2209680"/>
            <a:ext cx="1905120" cy="622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091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75"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21stcenturybps.wikispaces.com</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32" name="Content Placeholder 3" descr="Picture 26.png"/>
          <p:cNvPicPr/>
          <p:nvPr/>
        </p:nvPicPr>
        <p:blipFill>
          <a:blip r:embed="rId1"/>
          <a:stretch/>
        </p:blipFill>
        <p:spPr>
          <a:xfrm>
            <a:off x="1295280" y="1752480"/>
            <a:ext cx="6158160" cy="4299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39:38Z</dcterms:created>
  <dc:creator>BPS OIIT</dc:creator>
  <dc:description/>
  <dc:language>en-US</dc:language>
  <cp:lastModifiedBy>Ed  Considine</cp:lastModifiedBy>
  <dcterms:modified xsi:type="dcterms:W3CDTF">2008-11-17T19:35:12Z</dcterms:modified>
  <cp:revision>135</cp:revision>
  <dc:subject/>
  <dc:title>Wild World of Wikis</dc:title>
</cp:coreProperties>
</file>